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5E6-5790-4662-920C-E1906C7C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F1D-B320-4243-96DB-FF063858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FF5B-D2CE-41C0-A52F-1EB7A6EC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7BD9-7B84-4821-8B2C-7E503E3B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ED53-3A91-4DE6-88DB-2B0ECE57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0BF5-16ED-4FCB-836F-BAB659F0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6547-AE99-4356-AB40-995A93FE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7BA7-CEBA-4635-A991-81F23501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D604-3FBE-4BD5-B5B4-BDFFA42D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5DF8-6358-4958-8A47-98793B65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C4D3-A02B-4FA1-9276-176D3A82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605-5D7E-44C8-AAC7-A6BE43FC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6EE8-70CA-4526-98FB-67DBC7D8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BD8C-9EAE-4BBF-8C8E-01546C31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AEEF-F023-41B1-ADDC-3462C498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825E-CFEA-4161-9B18-C12AD671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0BCA-8AFB-42E8-AADB-41777B47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67E-65F4-490C-A917-3873C7E4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179-9337-43E8-A95E-403C0A4F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6F38-1F15-4BD0-B2D0-C04A8388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10E-97B8-4156-A722-D238FAAC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C61-FE07-4B82-8DE1-36B70481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1DD-5D95-4C81-BE45-E3AA2FB6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DB15-66FA-44C9-8EA6-170706FB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4367-B238-423B-B320-00A88376BFF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AF56-1458-4304-8C25-DC5AAA71E9C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Выполнила Пешкина Наталья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636 группа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76360" y="838080"/>
            <a:ext cx="6191280" cy="323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спорта комнатных растен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6666"/>
                </a:solidFill>
                <a:latin typeface="AnastasiaScript"/>
              </a:rPr>
              <a:t>Бальзамин султанский (семейство Бальзаминовые)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5410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одина – тропики Африки. Неприхотливое, обильно цветущее растение небольшого размера с сильно ветвящимися светло-зелеными сочными полупрозрачными стеблями. На их находятся небольшие поочередно расположенные светлые блестящие листья яйцевидной формы, на длинных черешках; край листа зубчатый. Бальзамин комнатный обильно и продолжительно цветет ярко розовыми или малиновыми цветками, реже лилиловыми или белыми, простыми или махровыми, имеющими шпорец. Бальзамин светолюбивое быстро растущее растение, развивается в любой почве, но предпочитает легкую питательную земляную смесь. Поливают бальзамин зимой умеренно, летом обильно; притеняют от прямых солнечных лучей. Бальзамины быстро стареют и требуют омоложения. Бальзамин размножается семенами и черенками, которые легко приживаются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63363" t="65982" r="5146" b="7508"/>
          <a:stretch/>
        </p:blipFill>
        <p:spPr>
          <a:xfrm>
            <a:off x="6400800" y="2438280"/>
            <a:ext cx="237024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006666"/>
                </a:solidFill>
                <a:latin typeface="AnastasiaScript"/>
              </a:rPr>
              <a:t>Бегония Рекс, королевская (семейство Бегониевые)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5257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одина – остров Ява. Это самая красивая из декоративно-лиственных бегоний. Невысокие растения с ползучим извивающимся свисающим стеблем, на котором видны многочисленные следы от опавших листьев. Листья крупные, очень красиво окрашенные – у некоторых сортов они темно-бордовые с серебристыми пятнами, у других серебристо-розовые, изумрудно-зеленые с темно-красной каймой, буроватые с серебристым оттенком. Края листьев ровные или изрезанные. Листья расположены на длинных черешках, покрыты редкими жесткими ворсинками. Цветет бегония мелкими светлыми цветочками. Сажают бегонию в неглубокий горшок с легкой земляной смесью, состоящей из листовой, перегнойной, торфяной земли и песка в соотношении 1:2:1:2.  Поливают бегонию летом обильно, зимой умеренно, желательно теплой водой. Размножается делением корневища с пучками листьев, листовыми черенками или листом, срезанным и поставленным в воду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0" y="2971800"/>
            <a:ext cx="1779480" cy="18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12189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nastasiaScript"/>
              </a:rPr>
              <a:t>Сеткрезия (семейство Коммелиновые, родственное традесканциям)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личается большой декоративностью и разнообразием окраски. По размеру сеткрезии больше традесканций, у них крупнее побеги и листья, окраска листьев разная, в зависимости от видов бледно-зеленая, темно-зеленая, фиолетовая, светло-зеленая с белыми полосками; у одних видов листья и побеги густо покрыты мягким пушком, у других опущена часть листа – влагалищная или нижняя. Стебли растений разной длины: короткие, сильно ветвящиеся либо длинные, достигающие 1 метра. Цветут белыми или розовыми цветами. Растение требует светлого помещения. Уход за растением и размножение сеткрезий такие как у традесканций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56356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nastasiaScript"/>
              </a:rPr>
              <a:t>Хлорофитум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nastasiaScript"/>
              </a:rPr>
              <a:t>(семейство Лилейны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одина – Южная Африка. Широко распространенное неприхотливое ампельное растение с длинными ярко-зелеными линейными листьями, собранными в пучки. Существуют более декоративные разновидности хлорофитума: на их листьях есть яркие белые продольные полоски, расположенные по краю или в середине листа. У взрослого растения из середины пучка листьев вырастают длинные свисающие цветочные стрелки, на которых появляются невзрачные мелкие белые цветы, а затем детки (розетки листьев с воздушными корнями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Хлорофитум хорошо растет как в прохладных помещениях, так и в комнатах с более высокой температурой воздуха. Переносит затенение. Летом растение обильно поливают. Сажают хлорофитум в земляную смесь, состоящую из листовой перегнойной земли и песка в соотношении 2:2:1. Размножается растение отводками и молодыми листовыми розетками. Пестролистным разновидностям хлорофитумов требуется больше количества света; при недостатке света на листьях исчезает белая краска. Растение часто поражаются щитовой тле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242244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6666"/>
                </a:solidFill>
                <a:latin typeface="AnastasiaScript"/>
              </a:rPr>
              <a:t>Примула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nastasiaScript"/>
              </a:rPr>
              <a:t>(семейство Первоцветны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одина – Китай. Невысокое обильно и продолжительно цветущее растение с укороченным стеблем и длинночерешковыми листьями, собранными в прикорневую розетку. Листья светлые, почковидные, опушенные, с волнистым краем. Цветы крупные, простые, разнообразной окраски, чаще светло или темно розовой, иногда малиновой, собраны в соцветие зонтик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имулы хорошо растут и цветут в светлом прохладном помещении; их иногда ставят в пространство между рамами окна, забирая оттуда лишь в сильные морозы. В этих условиях они особенно обильно цветут, причем окраска цветов становится густой и сочной. Цветут примулы всю зиму и до середины весны. Цветущие растения надо обильно поливать и удобрять; по окончании цветения поливку уменьшают. Пересаживают примулы ежегодно в легкую питательную почву, в которой нельзя добавлять свежий навоз, иначе растение заболеет и погибнет. Размножаются примулы делением растений при пересадк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2120760" cy="21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371600" y="3166920"/>
            <a:ext cx="693432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22T09:25:4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